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8B5-69B7-4309-81CA-B60EE15F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629-6A06-4BD4-8AED-9CFF5A87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A0F-5B55-423A-8B88-E7358668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AF9-4D33-42C4-869A-0CBD8818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59B-8FCB-4226-8639-9D2481CF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973-8457-4953-8353-F52F4BBF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A78-78BE-49E2-9B4C-AFBF8DA4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65B-2274-4416-A986-2AFD7F45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C48-50EF-4E83-B0AE-25F5BC69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02E-B398-4F03-9D85-F5AF29CE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EF7-68B5-4514-8E2E-44918F0B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587-B37D-4D14-A853-641CDB99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E06E-B70E-420F-B093-3300F866B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66960" y="3170160"/>
            <a:ext cx="181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Dialog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52480" y="685800"/>
            <a:ext cx="5562720" cy="5486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1828800"/>
            <a:ext cx="3124080" cy="312408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666960" y="3170160"/>
            <a:ext cx="181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Dialog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6858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4343400"/>
            <a:ext cx="914400" cy="7621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286000" y="4343400"/>
            <a:ext cx="990720" cy="685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49400">
            <a:off x="2963520" y="2306160"/>
            <a:ext cx="685800" cy="914400"/>
          </a:xfrm>
          <a:prstGeom prst="upDownArrow">
            <a:avLst>
              <a:gd name="adj1" fmla="val 50000"/>
              <a:gd name="adj2" fmla="val 26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3103800">
            <a:off x="5371920" y="2323800"/>
            <a:ext cx="685800" cy="914400"/>
          </a:xfrm>
          <a:prstGeom prst="upDownArrow">
            <a:avLst>
              <a:gd name="adj1" fmla="val 50000"/>
              <a:gd name="adj2" fmla="val 26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4114440" y="3962160"/>
            <a:ext cx="685800" cy="990360"/>
          </a:xfrm>
          <a:prstGeom prst="upDownArrow">
            <a:avLst>
              <a:gd name="adj1" fmla="val 50000"/>
              <a:gd name="adj2" fmla="val 287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685800"/>
            <a:ext cx="5562720" cy="5486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828800"/>
            <a:ext cx="3124080" cy="312408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6858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4343400"/>
            <a:ext cx="914400" cy="7621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3581400">
            <a:off x="5714640" y="2057400"/>
            <a:ext cx="1285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Po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 rot="3103800">
            <a:off x="5371920" y="2323800"/>
            <a:ext cx="685800" cy="914400"/>
          </a:xfrm>
          <a:prstGeom prst="upDownArrow">
            <a:avLst>
              <a:gd name="adj1" fmla="val 50000"/>
              <a:gd name="adj2" fmla="val 26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666960" y="3170160"/>
            <a:ext cx="181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Dialog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52480" y="685800"/>
            <a:ext cx="5562720" cy="5486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1828800"/>
            <a:ext cx="3124080" cy="312408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6858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86000" y="4343400"/>
            <a:ext cx="990720" cy="685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17748000">
            <a:off x="1886040" y="2228400"/>
            <a:ext cx="14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Cul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 rot="18449400">
            <a:off x="2963520" y="2306160"/>
            <a:ext cx="685800" cy="914400"/>
          </a:xfrm>
          <a:prstGeom prst="upDownArrow">
            <a:avLst>
              <a:gd name="adj1" fmla="val 50000"/>
              <a:gd name="adj2" fmla="val 26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666960" y="3170160"/>
            <a:ext cx="181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Dialog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52480" y="685800"/>
            <a:ext cx="5562720" cy="5486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1828800"/>
            <a:ext cx="3124080" cy="312408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4343400"/>
            <a:ext cx="914400" cy="7621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86000" y="4343400"/>
            <a:ext cx="990720" cy="685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352680" y="495288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Archite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4114440" y="3962160"/>
            <a:ext cx="685800" cy="990360"/>
          </a:xfrm>
          <a:prstGeom prst="upDownArrow">
            <a:avLst>
              <a:gd name="adj1" fmla="val 50000"/>
              <a:gd name="adj2" fmla="val 287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666960" y="3170160"/>
            <a:ext cx="181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Dialog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52480" y="685800"/>
            <a:ext cx="5562720" cy="548640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666960" y="3170160"/>
            <a:ext cx="181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Dialog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76720" y="152280"/>
            <a:ext cx="2286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on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52480" y="685800"/>
            <a:ext cx="5562720" cy="548640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1828800"/>
            <a:ext cx="3124080" cy="312408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666960" y="3170160"/>
            <a:ext cx="181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Dialog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6858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4343400"/>
            <a:ext cx="914400" cy="7621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286000" y="4343400"/>
            <a:ext cx="990720" cy="685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 rot="3581400">
            <a:off x="5714640" y="2057400"/>
            <a:ext cx="1285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Po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352680" y="495288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Archite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 rot="17748000">
            <a:off x="1886040" y="2228400"/>
            <a:ext cx="14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Cul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 rot="18449400">
            <a:off x="2963520" y="2306160"/>
            <a:ext cx="685800" cy="914400"/>
          </a:xfrm>
          <a:prstGeom prst="upDownArrow">
            <a:avLst>
              <a:gd name="adj1" fmla="val 50000"/>
              <a:gd name="adj2" fmla="val 26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3103800">
            <a:off x="5371920" y="2323800"/>
            <a:ext cx="685800" cy="914400"/>
          </a:xfrm>
          <a:prstGeom prst="upDownArrow">
            <a:avLst>
              <a:gd name="adj1" fmla="val 50000"/>
              <a:gd name="adj2" fmla="val 26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4114440" y="3962160"/>
            <a:ext cx="685800" cy="990360"/>
          </a:xfrm>
          <a:prstGeom prst="upDownArrow">
            <a:avLst>
              <a:gd name="adj1" fmla="val 50000"/>
              <a:gd name="adj2" fmla="val 287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9902000">
            <a:off x="2897640" y="1086480"/>
            <a:ext cx="2830320" cy="21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43" y="472"/>
                </a:moveTo>
                <a:arcTo wR="10800" hR="10800" stAng="-6419651" swAng="6335381"/>
                <a:lnTo>
                  <a:pt x="10800" y="10800"/>
                </a:lnTo>
                <a:close/>
              </a:path>
              <a:path fill="none" w="21600" h="21600">
                <a:moveTo>
                  <a:pt x="7643" y="472"/>
                </a:moveTo>
                <a:arcTo wR="10800" hR="10800" stAng="-6419651" swAng="6335381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4859400">
            <a:off x="4090680" y="2538360"/>
            <a:ext cx="304632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84" y="230"/>
                </a:moveTo>
                <a:arcTo wR="10800" hR="10800" stAng="-6110456" swAng="5273446"/>
                <a:lnTo>
                  <a:pt x="10800" y="10800"/>
                </a:lnTo>
                <a:close/>
              </a:path>
              <a:path fill="none" w="21600" h="21600">
                <a:moveTo>
                  <a:pt x="8584" y="230"/>
                </a:moveTo>
                <a:arcTo wR="10800" hR="10800" stAng="-6110456" swAng="5273446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2805800">
            <a:off x="2104920" y="3085920"/>
            <a:ext cx="304524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09" y="90"/>
                </a:moveTo>
                <a:arcTo wR="10800" hR="10800" stAng="-5844105" swAng="5829525"/>
                <a:lnTo>
                  <a:pt x="10800" y="10800"/>
                </a:lnTo>
                <a:close/>
              </a:path>
              <a:path fill="none" w="21600" h="21600">
                <a:moveTo>
                  <a:pt x="9409" y="90"/>
                </a:moveTo>
                <a:arcTo wR="10800" hR="10800" stAng="-5844105" swAng="5829525"/>
              </a:path>
            </a:pathLst>
          </a:custGeom>
          <a:noFill/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76720" y="152280"/>
            <a:ext cx="2286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on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22:33:18Z</dcterms:created>
  <dc:creator>Faculty</dc:creator>
  <dc:description/>
  <dc:language>en-US</dc:language>
  <cp:lastModifiedBy>Mark Reed Stoner</cp:lastModifiedBy>
  <dcterms:modified xsi:type="dcterms:W3CDTF">2006-03-09T10:45:18Z</dcterms:modified>
  <cp:revision>5</cp:revision>
  <dc:subject/>
  <dc:title>Slide 1</dc:title>
</cp:coreProperties>
</file>